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00C-12B6-406B-8C28-C6B435E3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85B-EA07-4E7A-B52E-313E75FA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9CB-C184-49D4-9662-8E4517E9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D84-5877-4F64-ADD1-779852D2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555-A2FC-413A-9238-2B7CC639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1CC-45C1-4491-A365-9751A235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674-7EEB-41F3-81FB-556A3B97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952-B807-4DB1-9423-937D5CDC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85E-614E-412E-A131-79B59681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36F-3768-43F1-AFBB-D93F5C83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3B5-805B-4EE2-AAE3-844A5FAD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7A6-C45A-4748-8140-7FA1EBBE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5480-51A3-48F7-B1C0-5995D432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431172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410080"/>
            <a:ext cx="640080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think of the message of this picture and quote are trying to convey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would be the consequence for how a person felt about their life by choosing either one of these path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Tarbut V Torah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Mr. Zo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094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Mirac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248520" cy="2490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2666880"/>
            <a:ext cx="5715000" cy="87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s: Listen to the following song and answer the questions belo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When in ones life does the world seem like a mirac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How does one loose the ability to perceive miracl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t what times can one still feel amazed at life and why at that ti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What is his question? What do think this person is feeling?  What regrets does he seem to have about his life?  Which path do you think he ch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286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Tramp’s the Logic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036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0"/>
            <a:ext cx="2590920" cy="3682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racle of Pu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0"/>
            <a:ext cx="3352680" cy="9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__________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s: Read the article and answer the following questions in Chevruta according to th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What is the Rabbis initial question about Purim?  What concept must be re-examine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What is the definition of miracle? What is the essential aspect of a mira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Give an example of how something which not supernatural could be considered a mirac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How do we lose the ability to recognize miracl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Why is the Siddur filled with blessings over things which seem like mundane activiti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What are the two ways of sensing G-d’s presenc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How can the story of Purim help us with appreciating the miracles of our liv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600"/>
            <a:ext cx="6035400" cy="9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mework Due Tuesday June 2, 2009 Take home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Ask your parents if they believe in miracles and what their definition of miracle is?  Record their defin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Share and have your parents read with you what you have learned today about redefining what a miracle is.   Then ask them if they have an example in their life that would fit this new definition (by Rabbi Steinshaltz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miracle is based not whether an event is supernatural but instead on the events personal signific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 their example be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7:03:48Z</dcterms:created>
  <dc:creator>tamian</dc:creator>
  <dc:description/>
  <dc:language>en-US</dc:language>
  <cp:lastModifiedBy>dzoppo</cp:lastModifiedBy>
  <dcterms:modified xsi:type="dcterms:W3CDTF">2009-06-01T15:38:28Z</dcterms:modified>
  <cp:revision>6</cp:revision>
  <dc:subject/>
  <dc:title>Slide 1</dc:title>
</cp:coreProperties>
</file>